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E179-9955-49B6-BA92-765F84D82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E854-E0D4-4C7A-8BBD-A35CE4E18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BEE-849B-4577-B5B3-ADAED26B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962-C197-4C50-90FD-69CC79AA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5D8-6C21-42CB-8E3D-9035F40F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937-D834-40E6-8511-A33F3D01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561-3702-41F6-BDE3-BE0664EA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EFD-B4F3-4357-A596-E6090132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F54-8169-4153-A2E0-2A0E3D7C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79D-4C48-467B-8288-E2606C43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C4B-F615-43F3-A72B-29AFE72D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74C-709A-4482-AE7D-703E3E4C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BC8-DFE0-45D8-A55D-1B124C37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A9D-ADE6-4890-8292-617EC835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523B-C83C-4FC6-99DA-0B8FAB1A6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jpeg"/><Relationship Id="rId3" Type="http://schemas.openxmlformats.org/officeDocument/2006/relationships/image" Target="../media/image30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301280" y="969840"/>
            <a:ext cx="35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СТЬ- ЛАБИНСК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501720" y="1905120"/>
            <a:ext cx="52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экскурсионный маршру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966840" y="2590920"/>
            <a:ext cx="439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роектно-исследовательская работ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о КУБАНОВЕДАНИЮ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in-ulb"/>
          <p:cNvPicPr/>
          <p:nvPr/>
        </p:nvPicPr>
        <p:blipFill>
          <a:blip r:embed="rId2"/>
          <a:stretch/>
        </p:blipFill>
        <p:spPr>
          <a:xfrm>
            <a:off x="154080" y="304920"/>
            <a:ext cx="246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302040" y="4678920"/>
            <a:ext cx="197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Социально-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Педагогически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колледж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2 - 02 2014 191"/>
          <p:cNvPicPr/>
          <p:nvPr/>
        </p:nvPicPr>
        <p:blipFill>
          <a:blip r:embed="rId2"/>
          <a:stretch/>
        </p:blipFill>
        <p:spPr>
          <a:xfrm>
            <a:off x="152280" y="762120"/>
            <a:ext cx="2438640" cy="2895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3647160" y="822600"/>
            <a:ext cx="454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орпус с аркой — одно из здани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едучилища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остройка ориентировочно XIX века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мещала в себя первый радиоузел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од зданием находятс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большие подвалы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802680" y="4875840"/>
            <a:ext cx="5086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Здание мастерских (перекрёсток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л. Ленина и Островского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Здание было построено как гостиница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Затем вмещало в себе гимназию, затем—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школу 2-й ступен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3256418854_2a23c05b85"/>
          <p:cNvPicPr/>
          <p:nvPr/>
        </p:nvPicPr>
        <p:blipFill>
          <a:blip r:embed="rId3"/>
          <a:stretch/>
        </p:blipFill>
        <p:spPr>
          <a:xfrm>
            <a:off x="5257800" y="2705040"/>
            <a:ext cx="3429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459000" y="4722840"/>
            <a:ext cx="175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Поклонны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крес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12 - 02 2014 187"/>
          <p:cNvPicPr/>
          <p:nvPr/>
        </p:nvPicPr>
        <p:blipFill>
          <a:blip r:embed="rId2"/>
          <a:stretch/>
        </p:blipFill>
        <p:spPr>
          <a:xfrm>
            <a:off x="3581280" y="2362320"/>
            <a:ext cx="4876920" cy="1949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://ustlabinsk.ru/_pictures/foto/dosto/pokloniikrest.jpg"/>
          <p:cNvPicPr/>
          <p:nvPr/>
        </p:nvPicPr>
        <p:blipFill>
          <a:blip r:embed="rId3"/>
          <a:stretch/>
        </p:blipFill>
        <p:spPr>
          <a:xfrm>
            <a:off x="152280" y="228600"/>
            <a:ext cx="251460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3494520" y="122400"/>
            <a:ext cx="559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Городской парк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Аттракционы, качели, игровая площадка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афе подарят хорошее настроени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На территории парка расположен небольшо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зоопарк – станция юннатов. В нем живут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разные животные и птицы, а также имеетс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аквариум с красивыми рыбкам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570480" y="4799520"/>
            <a:ext cx="460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 центре парка на месте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где когда-то был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иконостас Свято-Никольской церкви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становлен поклонный крест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x_48c42bfe"/>
          <p:cNvPicPr/>
          <p:nvPr/>
        </p:nvPicPr>
        <p:blipFill>
          <a:blip r:embed="rId4"/>
          <a:stretch/>
        </p:blipFill>
        <p:spPr>
          <a:xfrm>
            <a:off x="6705720" y="4038480"/>
            <a:ext cx="1676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Историко-краеведческий музей Усть-Лабинского района"/>
          <p:cNvPicPr/>
          <p:nvPr/>
        </p:nvPicPr>
        <p:blipFill>
          <a:blip r:embed="rId2"/>
          <a:stretch/>
        </p:blipFill>
        <p:spPr>
          <a:xfrm>
            <a:off x="152280" y="1219320"/>
            <a:ext cx="2514600" cy="2819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152280" y="47242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Краеведчески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музе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3660480" y="833400"/>
            <a:ext cx="492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Здание музея - памятник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архитектуры, построено в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онце ХIХ века черкесским князем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Затем это было частно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домовладение семьи Безродны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(последний атаман станицы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ть-Лабинской - Прокофи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Безродный). Музей был основан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 1914 г. Основателем его в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т. Усть – Лабинско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был Петренко Михаил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ванович (1887-1967) 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733560" y="758520"/>
            <a:ext cx="408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 коллекцию музея входи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более чем восемь тысяч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триста десять предметов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три тысячи четырест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осемьдесят предметов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оллекции представлены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 экспозиции и входя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 основные фонды музе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7"/>
          <p:cNvPicPr/>
          <p:nvPr/>
        </p:nvPicPr>
        <p:blipFill>
          <a:blip r:embed="rId2"/>
          <a:stretch/>
        </p:blipFill>
        <p:spPr>
          <a:xfrm>
            <a:off x="182520" y="304920"/>
            <a:ext cx="2373480" cy="396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2"/>
          <p:cNvPicPr/>
          <p:nvPr/>
        </p:nvPicPr>
        <p:blipFill>
          <a:blip r:embed="rId3"/>
          <a:stretch/>
        </p:blipFill>
        <p:spPr>
          <a:xfrm>
            <a:off x="3581280" y="3809880"/>
            <a:ext cx="2362320" cy="157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Гончарство меотов"/>
          <p:cNvPicPr/>
          <p:nvPr/>
        </p:nvPicPr>
        <p:blipFill>
          <a:blip r:embed="rId4"/>
          <a:stretch/>
        </p:blipFill>
        <p:spPr>
          <a:xfrm>
            <a:off x="5867280" y="4000680"/>
            <a:ext cx="2629080" cy="1971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304920" y="487692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66"/>
                </a:solidFill>
                <a:latin typeface="Times New Roman"/>
              </a:rPr>
              <a:t>Экспонаты Краеведческого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66"/>
                </a:solidFill>
                <a:latin typeface="Times New Roman"/>
              </a:rPr>
              <a:t>музея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82320" y="487548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Сквер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с фонтаном</a:t>
            </a:r>
            <a:r>
              <a:rPr b="0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fontan2"/>
          <p:cNvPicPr/>
          <p:nvPr/>
        </p:nvPicPr>
        <p:blipFill>
          <a:blip r:embed="rId2"/>
          <a:stretch/>
        </p:blipFill>
        <p:spPr>
          <a:xfrm>
            <a:off x="4952880" y="4876920"/>
            <a:ext cx="2438640" cy="1625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fontan10"/>
          <p:cNvPicPr/>
          <p:nvPr/>
        </p:nvPicPr>
        <p:blipFill>
          <a:blip r:embed="rId3"/>
          <a:stretch/>
        </p:blipFill>
        <p:spPr>
          <a:xfrm>
            <a:off x="154080" y="304920"/>
            <a:ext cx="2428920" cy="4038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3648960" y="379080"/>
            <a:ext cx="5243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Начиная с весны и до самых морозов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квер «горит» цветочными огнями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Дизайнерское оформление клумб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аккуратно подстриженные газоны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экзотические кустарники и деревь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радуют глаз и поднимают настроение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сем посетителям. Особой гордостью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квера является световой фонтан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начала он был без цветных подсветок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а после реконструкции  они появились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о многочисленным дорожкам бегают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атаются на  роликах и велосипедах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алыши, по вечерам собирается молодежь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Даже для молодоженов стало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традицией фотографироваться в сквере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fontan10"/>
          <p:cNvPicPr/>
          <p:nvPr/>
        </p:nvPicPr>
        <p:blipFill>
          <a:blip r:embed="rId4"/>
          <a:stretch/>
        </p:blipFill>
        <p:spPr>
          <a:xfrm>
            <a:off x="152280" y="304920"/>
            <a:ext cx="2428920" cy="4038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ontan10"/>
          <p:cNvPicPr/>
          <p:nvPr/>
        </p:nvPicPr>
        <p:blipFill>
          <a:blip r:embed="rId5"/>
          <a:stretch/>
        </p:blipFill>
        <p:spPr>
          <a:xfrm>
            <a:off x="152280" y="304920"/>
            <a:ext cx="2428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380880" y="48006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Сквер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с фонтано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78640" y="2437200"/>
            <a:ext cx="468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На центральном входе в сквер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 2013 году были установлены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амятники А.Суворову и М.Клепикову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12 - 02 2014 180"/>
          <p:cNvPicPr/>
          <p:nvPr/>
        </p:nvPicPr>
        <p:blipFill>
          <a:blip r:embed="rId2"/>
          <a:stretch/>
        </p:blipFill>
        <p:spPr>
          <a:xfrm>
            <a:off x="4038480" y="762120"/>
            <a:ext cx="4038840" cy="176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fontan10"/>
          <p:cNvPicPr/>
          <p:nvPr/>
        </p:nvPicPr>
        <p:blipFill>
          <a:blip r:embed="rId3"/>
          <a:stretch/>
        </p:blipFill>
        <p:spPr>
          <a:xfrm>
            <a:off x="228600" y="228600"/>
            <a:ext cx="242892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12 - 02 2014 181"/>
          <p:cNvPicPr/>
          <p:nvPr/>
        </p:nvPicPr>
        <p:blipFill>
          <a:blip r:embed="rId4"/>
          <a:stretch/>
        </p:blipFill>
        <p:spPr>
          <a:xfrm>
            <a:off x="3581280" y="3505320"/>
            <a:ext cx="3429000" cy="219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12 - 02 2014 183"/>
          <p:cNvPicPr/>
          <p:nvPr/>
        </p:nvPicPr>
        <p:blipFill>
          <a:blip r:embed="rId5"/>
          <a:stretch/>
        </p:blipFill>
        <p:spPr>
          <a:xfrm>
            <a:off x="7086600" y="3429000"/>
            <a:ext cx="129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-4354560" y="22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image57336951"/>
          <p:cNvPicPr/>
          <p:nvPr/>
        </p:nvPicPr>
        <p:blipFill>
          <a:blip r:embed="rId2"/>
          <a:stretch/>
        </p:blipFill>
        <p:spPr>
          <a:xfrm>
            <a:off x="152280" y="304920"/>
            <a:ext cx="2444760" cy="4038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3581280" y="457200"/>
            <a:ext cx="4800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1 8 сентября 2013 года в сквере  была заложена аллея деревьев, посаженных артистами – участниками Народного кинофестиваля в Усть-Лабинске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«Земля отцов – моя Земля». Это новая традиция фестиваля.  Свои деревья на аллее посадили: Александр Панкратов-Чёрный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Лидия Федосеева-Шукшина,Галина Бокашевская,  Любовь Руденко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image57336952"/>
          <p:cNvPicPr/>
          <p:nvPr/>
        </p:nvPicPr>
        <p:blipFill>
          <a:blip r:embed="rId3"/>
          <a:stretch/>
        </p:blipFill>
        <p:spPr>
          <a:xfrm>
            <a:off x="3657600" y="3962520"/>
            <a:ext cx="216216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image57336936"/>
          <p:cNvPicPr/>
          <p:nvPr/>
        </p:nvPicPr>
        <p:blipFill>
          <a:blip r:embed="rId4"/>
          <a:stretch/>
        </p:blipFill>
        <p:spPr>
          <a:xfrm>
            <a:off x="6172200" y="44197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380880" y="48769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Сквер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с фонтано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47240" y="4799520"/>
            <a:ext cx="217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Администраци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города и района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Чебуречная (сегодня на этом месте администрация &#10;района)"/>
          <p:cNvPicPr/>
          <p:nvPr/>
        </p:nvPicPr>
        <p:blipFill>
          <a:blip r:embed="rId2"/>
          <a:stretch/>
        </p:blipFill>
        <p:spPr>
          <a:xfrm>
            <a:off x="3657600" y="838080"/>
            <a:ext cx="3962520" cy="249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Администрация района"/>
          <p:cNvPicPr/>
          <p:nvPr/>
        </p:nvPicPr>
        <p:blipFill>
          <a:blip r:embed="rId3"/>
          <a:stretch/>
        </p:blipFill>
        <p:spPr>
          <a:xfrm>
            <a:off x="5029200" y="3733920"/>
            <a:ext cx="335268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12 - 02 2014 179"/>
          <p:cNvPicPr/>
          <p:nvPr/>
        </p:nvPicPr>
        <p:blipFill>
          <a:blip r:embed="rId4"/>
          <a:stretch/>
        </p:blipFill>
        <p:spPr>
          <a:xfrm>
            <a:off x="152280" y="1028880"/>
            <a:ext cx="2514600" cy="2247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3201480" y="3047760"/>
            <a:ext cx="42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Чебуречная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а  сейчас  администрация район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176120" y="373536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2014 го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4069080" y="51832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2012го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226440" y="4771080"/>
            <a:ext cx="189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Исторические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здания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гор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40731369"/>
          <p:cNvPicPr/>
          <p:nvPr/>
        </p:nvPicPr>
        <p:blipFill>
          <a:blip r:embed="rId2"/>
          <a:stretch/>
        </p:blipFill>
        <p:spPr>
          <a:xfrm>
            <a:off x="152280" y="1219320"/>
            <a:ext cx="2514600" cy="1687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3580200" y="533520"/>
            <a:ext cx="5029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Здание построено в конце 1950-х годов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 первоначально это был самый большо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 Усть-Лабинске магазин в два этажа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од названием УНИВЕРМАГ. Позднее профил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был изменен, и его оборудовали по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центральный книжный магазин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а уж потом это здание передали под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ЗАГ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492920" y="310896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Г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muzshkola"/>
          <p:cNvPicPr/>
          <p:nvPr/>
        </p:nvPicPr>
        <p:blipFill>
          <a:blip r:embed="rId3"/>
          <a:stretch/>
        </p:blipFill>
        <p:spPr>
          <a:xfrm>
            <a:off x="5334120" y="3886200"/>
            <a:ext cx="3085920" cy="2076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3657600" y="2743200"/>
            <a:ext cx="494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Здание, возведенное в стиле «советского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классицизма» с многоступенчатым карнизом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бывшее здание райкома КПСС, в котором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ейчас располагается детская музыкальна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школ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3240" y="457020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Воински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мемориа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и Вечный огон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ttp://ustlabinsk.ru/_pictures/foto/dosto/memvoinam.jpg"/>
          <p:cNvPicPr/>
          <p:nvPr/>
        </p:nvPicPr>
        <p:blipFill>
          <a:blip r:embed="rId2"/>
          <a:stretch/>
        </p:blipFill>
        <p:spPr>
          <a:xfrm>
            <a:off x="152280" y="304920"/>
            <a:ext cx="2457720" cy="4038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3647880" y="1141200"/>
            <a:ext cx="4958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амятник и Вечный огонь напротив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омплекса зданий Усть-Лабинско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больницы являются центральным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емориалом, воздвигнутым в памят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 погибших земляках. Мемориал возведе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на месте братской могилы бойцов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огибших при бомбежке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железнодорожного вокзала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амятный знак землякам погибшим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 годы гражданской и Велико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течественной войн и Вечный огон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был возведен в 1968 году. В 1985 году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 40-летию памятник был переделан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chasovnya"/>
          <p:cNvPicPr/>
          <p:nvPr/>
        </p:nvPicPr>
        <p:blipFill>
          <a:blip r:embed="rId2"/>
          <a:stretch/>
        </p:blipFill>
        <p:spPr>
          <a:xfrm>
            <a:off x="152280" y="304920"/>
            <a:ext cx="2535480" cy="4038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3657600" y="868680"/>
            <a:ext cx="45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Часовня Святител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Николая Чудотворца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на находится на въезд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 город со стороны Краснодара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 пересечении с дорого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едущей из соседней Адыгее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x_2a7d3a4c"/>
          <p:cNvPicPr/>
          <p:nvPr/>
        </p:nvPicPr>
        <p:blipFill>
          <a:blip r:embed="rId3"/>
          <a:stretch/>
        </p:blipFill>
        <p:spPr>
          <a:xfrm>
            <a:off x="6095880" y="33526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12 - 02 2014 199"/>
          <p:cNvPicPr/>
          <p:nvPr/>
        </p:nvPicPr>
        <p:blipFill>
          <a:blip r:embed="rId4"/>
          <a:stretch/>
        </p:blipFill>
        <p:spPr>
          <a:xfrm>
            <a:off x="3657600" y="38862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4"/>
          <p:cNvSpPr/>
          <p:nvPr/>
        </p:nvSpPr>
        <p:spPr>
          <a:xfrm>
            <a:off x="0" y="46483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Часовня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Святител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Николая Чудотворц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531000" y="4799520"/>
            <a:ext cx="157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Часовн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Пресвято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Троицы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http://ustlabinsk.ru/_pictures/foto/dosto/chasovnyatroiza.jpg"/>
          <p:cNvPicPr/>
          <p:nvPr/>
        </p:nvPicPr>
        <p:blipFill>
          <a:blip r:embed="rId2"/>
          <a:stretch/>
        </p:blipFill>
        <p:spPr>
          <a:xfrm>
            <a:off x="96840" y="304920"/>
            <a:ext cx="2448000" cy="40384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-4622760" y="222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3646440" y="760680"/>
            <a:ext cx="4772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10 сентября 2002 года был проведе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чин освящения часовни Пресвято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Троицы. Проводил его Благочинны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сть-Лабинского и Выселковского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районов отец Леонид Черных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Часовня возведена в честь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разрушенного в 1947 году храм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ресвятой Троицы, который находилс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на месте Дворца культуры "Кубань"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Усть-Лабинск. Новому храму быть"/>
          <p:cNvPicPr/>
          <p:nvPr/>
        </p:nvPicPr>
        <p:blipFill>
          <a:blip r:embed="rId3"/>
          <a:stretch/>
        </p:blipFill>
        <p:spPr>
          <a:xfrm>
            <a:off x="4419720" y="3733920"/>
            <a:ext cx="3276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800" y="4646880"/>
            <a:ext cx="27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Железнодорожны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вокзал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44170520"/>
          <p:cNvPicPr/>
          <p:nvPr/>
        </p:nvPicPr>
        <p:blipFill>
          <a:blip r:embed="rId2"/>
          <a:stretch/>
        </p:blipFill>
        <p:spPr>
          <a:xfrm>
            <a:off x="0" y="1066680"/>
            <a:ext cx="2514600" cy="1893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079960" cy="12938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0"/>
          <p:cNvSpPr/>
          <p:nvPr/>
        </p:nvSpPr>
        <p:spPr>
          <a:xfrm>
            <a:off x="-4338720" y="214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3658320" y="762840"/>
            <a:ext cx="483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окзал на железнодорожно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танции «Усть-Лабинская» —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дин из самых красивых в Краснодарско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крае. Именно здесь проходили съёмки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картины "Безбилетная пассажирка"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Здание является третьим самы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красивым строением города, вместе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 главным корпусом педагогического училищ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 районным комитетом партии.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тарое здание было разрушено в войну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овременная покраска здания — жёлтая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до этого была розовая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149040" y="4799520"/>
            <a:ext cx="24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Братская могила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советским воинам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ustlabinsk.ru/_pictures/foto/dosto/pam_voi_vokzal.jpg"/>
          <p:cNvPicPr/>
          <p:nvPr/>
        </p:nvPicPr>
        <p:blipFill>
          <a:blip r:embed="rId2"/>
          <a:stretch/>
        </p:blipFill>
        <p:spPr>
          <a:xfrm>
            <a:off x="152280" y="304920"/>
            <a:ext cx="2448000" cy="4038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8"/>
          <p:cNvSpPr/>
          <p:nvPr/>
        </p:nvSpPr>
        <p:spPr>
          <a:xfrm>
            <a:off x="3494160" y="717480"/>
            <a:ext cx="5392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Люди пережившие войну утверждают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что памятник установлен в память тех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олдат, которые погибли  при бомбежке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окзала немецкими самолетам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На станции стоял состав с раненны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бойцами, а на другом пути находился состав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 боеприпасами. Немецкая авиация нанесла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бомбовый удар по станции и уничтожил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ба состава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На братской могиле уже после войны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была установлена скульптура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изображающая советского солдата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корбящего о своих погибших товарищах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764280" y="455616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Дом-музе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Дончакова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579120" y="762840"/>
            <a:ext cx="509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бшитый корой тополя, дом Дончакова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больше похож на теремок из русской сказки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ван Алексеевич вырезал из дерева не прост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оделки, а настоящие произведения искусства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дарил их соседям, друзьям и родственникам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 его доме и во дворе соседствуют  созданны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м в натуральную величину сказочные герои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Макеты (копии в уменьшенном виде) многих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Храмов и церквей нашей России – Кижи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Храм Василия Блаженного – это можн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азвать ювелирной работой по дереву.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3D8UpDJEQ1M"/>
          <p:cNvPicPr/>
          <p:nvPr/>
        </p:nvPicPr>
        <p:blipFill>
          <a:blip r:embed="rId2"/>
          <a:stretch/>
        </p:blipFill>
        <p:spPr>
          <a:xfrm>
            <a:off x="152280" y="1219320"/>
            <a:ext cx="2438640" cy="2152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33633_900"/>
          <p:cNvPicPr/>
          <p:nvPr/>
        </p:nvPicPr>
        <p:blipFill>
          <a:blip r:embed="rId3"/>
          <a:stretch/>
        </p:blipFill>
        <p:spPr>
          <a:xfrm>
            <a:off x="5791320" y="3870360"/>
            <a:ext cx="26002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533520" y="48006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Дом-музе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Дончаков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494880" y="303480"/>
            <a:ext cx="4966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 доме были две мастерские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дна - для изготовления крупных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редметов, другая - для ювелирно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работы. В этих произведениях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олностью соблюдены все пропорции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На одну такую работу у мастера уходило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больше полугода и несколько тысяч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ручную сделанных деталей. Некоторые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из работ Ивана Алексеевича находятс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 сочинском художественном музе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8uDLqkwAu4A"/>
          <p:cNvPicPr/>
          <p:nvPr/>
        </p:nvPicPr>
        <p:blipFill>
          <a:blip r:embed="rId2"/>
          <a:stretch/>
        </p:blipFill>
        <p:spPr>
          <a:xfrm>
            <a:off x="6400800" y="3962520"/>
            <a:ext cx="1928880" cy="2089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дом-музей Ивана Алексеевича Дончакова"/>
          <p:cNvPicPr/>
          <p:nvPr/>
        </p:nvPicPr>
        <p:blipFill>
          <a:blip r:embed="rId3"/>
          <a:stretch/>
        </p:blipFill>
        <p:spPr>
          <a:xfrm>
            <a:off x="0" y="1523880"/>
            <a:ext cx="2590920" cy="20289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-1927080" y="236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429000" y="335268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амая известная работа мастера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«Голова богатыря» из поэмы «Руслан и Людмил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была вырезана примерн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 1983-84 годах. Стоит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а углу улиц Красной 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ктябрьской напроти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берБанка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306000" y="4799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Фонтан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скульптур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84112159"/>
          <p:cNvPicPr/>
          <p:nvPr/>
        </p:nvPicPr>
        <p:blipFill>
          <a:blip r:embed="rId2"/>
          <a:stretch/>
        </p:blipFill>
        <p:spPr>
          <a:xfrm>
            <a:off x="169920" y="304920"/>
            <a:ext cx="2462040" cy="411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42781496"/>
          <p:cNvPicPr/>
          <p:nvPr/>
        </p:nvPicPr>
        <p:blipFill>
          <a:blip r:embed="rId3"/>
          <a:stretch/>
        </p:blipFill>
        <p:spPr>
          <a:xfrm>
            <a:off x="3581280" y="806400"/>
            <a:ext cx="50292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2160" y="495252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Спортивно-технически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комплекс "Пилот"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x_638a62e8"/>
          <p:cNvPicPr/>
          <p:nvPr/>
        </p:nvPicPr>
        <p:blipFill>
          <a:blip r:embed="rId2"/>
          <a:stretch/>
        </p:blipFill>
        <p:spPr>
          <a:xfrm>
            <a:off x="152280" y="1676520"/>
            <a:ext cx="2438640" cy="16272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3734280" y="682560"/>
            <a:ext cx="4659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портивно-технически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омплекс "Пилот", трасса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для мотокросса,  где проводятс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фициальные спортивны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оревнования по картингу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ралли-спринту, дрифтингу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джип-триалу, тест драйв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на мотоциклах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75"/>
          <p:cNvPicPr/>
          <p:nvPr/>
        </p:nvPicPr>
        <p:blipFill>
          <a:blip r:embed="rId3"/>
          <a:stretch/>
        </p:blipFill>
        <p:spPr>
          <a:xfrm>
            <a:off x="3581280" y="4114800"/>
            <a:ext cx="4838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153720" y="47998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АО "Флорентина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-4470480" y="2515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emek"/>
          <p:cNvPicPr/>
          <p:nvPr/>
        </p:nvPicPr>
        <p:blipFill>
          <a:blip r:embed="rId2"/>
          <a:stretch/>
        </p:blipFill>
        <p:spPr>
          <a:xfrm>
            <a:off x="152280" y="1752480"/>
            <a:ext cx="2362320" cy="1752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8"/>
          <p:cNvSpPr/>
          <p:nvPr/>
        </p:nvSpPr>
        <p:spPr>
          <a:xfrm>
            <a:off x="3537360" y="757440"/>
            <a:ext cx="56016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ОАО "Флорентина" (Усть–Лабински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эфирно–маслоэкстракционны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комбинат) – единственное в Росс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предприят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подобного профиля, являющеес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современным производством по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переработке масличных видов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сельскохозяйственных культур 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единственным в Росс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предприятием по переработк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кориандра и производству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эфирного масл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-4486320" y="2696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saharny_zavod_small"/>
          <p:cNvPicPr/>
          <p:nvPr/>
        </p:nvPicPr>
        <p:blipFill>
          <a:blip r:embed="rId2"/>
          <a:stretch/>
        </p:blipFill>
        <p:spPr>
          <a:xfrm>
            <a:off x="228600" y="1600200"/>
            <a:ext cx="2362320" cy="1390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3739320" y="651960"/>
            <a:ext cx="527544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ЗАО "Сахарный завод "Свобода"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дин из лучших и стабильных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ахарных  заводов в Краснодарско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рае. Завод имеет международные 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ечественнынаграды за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ысококачественную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одукцию, которая входит в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"100 лучших товаров России«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пользуется широким спросо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2520" y="4800600"/>
            <a:ext cx="24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ахарный завод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"Свобод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530640" y="4845600"/>
            <a:ext cx="220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ООО "Русь"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(хлебокомбинат)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rus_small"/>
          <p:cNvPicPr/>
          <p:nvPr/>
        </p:nvPicPr>
        <p:blipFill>
          <a:blip r:embed="rId3"/>
          <a:stretch/>
        </p:blipFill>
        <p:spPr>
          <a:xfrm>
            <a:off x="304920" y="1523880"/>
            <a:ext cx="2438280" cy="12002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9"/>
          <p:cNvSpPr/>
          <p:nvPr/>
        </p:nvSpPr>
        <p:spPr>
          <a:xfrm>
            <a:off x="-4653000" y="2764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3495600" y="1065600"/>
            <a:ext cx="51962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ОО "Русь" (хлебокомбинат) –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рупнейшее в районе предприятие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о выпуску хлебобулочных издели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 производственной мощностью 64,3 т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только хлебобулочных изделий в сутк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омимо трех хлебных цехов, в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труктуру предприятия входят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ондитерский, колбасный, макаронны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цеха и санитарная бойня. Предприятие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ыпускает 40 наименований хлебобулочных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издели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-4601880" y="4190400"/>
            <a:ext cx="29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x_28aa13dd"/>
          <p:cNvPicPr/>
          <p:nvPr/>
        </p:nvPicPr>
        <p:blipFill>
          <a:blip r:embed="rId2"/>
          <a:stretch/>
        </p:blipFill>
        <p:spPr>
          <a:xfrm>
            <a:off x="3581280" y="3276720"/>
            <a:ext cx="4953240" cy="2703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2"/>
          <p:cNvSpPr/>
          <p:nvPr/>
        </p:nvSpPr>
        <p:spPr>
          <a:xfrm>
            <a:off x="3659400" y="911160"/>
            <a:ext cx="4982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Главной историческо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достопримечательностью многи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читают   частично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охранившуюся до наши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дней Александровскую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репость XVIII ве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25146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0" y="47242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Александровска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крепост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1368720" y="4190040"/>
            <a:ext cx="19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Группа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Компан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"Подшипник».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podshipnik_small"/>
          <p:cNvPicPr/>
          <p:nvPr/>
        </p:nvPicPr>
        <p:blipFill>
          <a:blip r:embed="rId2"/>
          <a:stretch/>
        </p:blipFill>
        <p:spPr>
          <a:xfrm>
            <a:off x="1143000" y="1905120"/>
            <a:ext cx="2209680" cy="1409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-4218120" y="2664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113720" y="610920"/>
            <a:ext cx="427716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Группа компании  "Подшипник»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существляет техническое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бслуживание сельскохозяйственног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роизводства, представляют запасные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части к сельскохозяйственной техник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 автомобилям. Торгово-выставочны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Центр ежегодно проводит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Международную выставку "Золота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ива", на которой демонстрируются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езультаты работы АПК, образц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родукции сельхозмашиностроения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zoloaya_niva_7365837487"/>
          <p:cNvPicPr/>
          <p:nvPr/>
        </p:nvPicPr>
        <p:blipFill>
          <a:blip r:embed="rId3"/>
          <a:stretch/>
        </p:blipFill>
        <p:spPr>
          <a:xfrm>
            <a:off x="6400800" y="4022640"/>
            <a:ext cx="1809720" cy="136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114784_t"/>
          <p:cNvPicPr/>
          <p:nvPr/>
        </p:nvPicPr>
        <p:blipFill>
          <a:blip r:embed="rId4"/>
          <a:stretch/>
        </p:blipFill>
        <p:spPr>
          <a:xfrm>
            <a:off x="6019920" y="3657600"/>
            <a:ext cx="952560" cy="581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5576219d-6e61-4e92-b3a6-54a9add26593"/>
          <p:cNvPicPr/>
          <p:nvPr/>
        </p:nvPicPr>
        <p:blipFill>
          <a:blip r:embed="rId5"/>
          <a:stretch/>
        </p:blipFill>
        <p:spPr>
          <a:xfrm>
            <a:off x="4191120" y="4044960"/>
            <a:ext cx="1981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-4651200" y="2594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12 - 02 2014 184"/>
          <p:cNvPicPr/>
          <p:nvPr/>
        </p:nvPicPr>
        <p:blipFill>
          <a:blip r:embed="rId2"/>
          <a:stretch/>
        </p:blipFill>
        <p:spPr>
          <a:xfrm>
            <a:off x="228600" y="685800"/>
            <a:ext cx="2352600" cy="14288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579840" y="458640"/>
            <a:ext cx="513072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амым крупным предприятием город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Усть-Лабинска является ООО «Управляюща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компания «АгроХолдинг «Кубань»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АгроХолдинг «Кубань» создан 11 июня 200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года на базе колхоза «Кубань» Усть-Лабинског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айона. Сегодня АгроХолдинг является одно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з крупнейших аграрных бизнес-структур Юг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оссии. В его состав входят 19 предприятий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 том числе: 11 сельскохозяйственных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3 элеватора общей мощностью 200 тысяч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тонн, 2 уникальных завода по производству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 обработке семян, мельничный комплекс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хлебокомбинат и др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1379416456_selkhoztekhnika-putin"/>
          <p:cNvPicPr/>
          <p:nvPr/>
        </p:nvPicPr>
        <p:blipFill>
          <a:blip r:embed="rId3"/>
          <a:stretch/>
        </p:blipFill>
        <p:spPr>
          <a:xfrm>
            <a:off x="3581280" y="4400640"/>
            <a:ext cx="2667240" cy="1666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307440" y="4653000"/>
            <a:ext cx="19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АгроХолдинг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«Кубань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2" descr="001"/>
          <p:cNvPicPr/>
          <p:nvPr/>
        </p:nvPicPr>
        <p:blipFill>
          <a:blip r:embed="rId4"/>
          <a:stretch/>
        </p:blipFill>
        <p:spPr>
          <a:xfrm>
            <a:off x="6248520" y="4419720"/>
            <a:ext cx="22096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3505320" y="457200"/>
            <a:ext cx="533376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Экскурсионный маршрут по г.Усть-Лабинску 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Спортивно-технический комплекс "Пилот"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Часовня Святителя Николая Чудотворца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Александровская  крепос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памятник Муси Пинкензону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Храм Преподобного Сергия Радонежского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МБОУ школа № 1, им. А.В.Суворова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Социально-педагогический колледж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Городской парк и поклонный крест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Краеведческий музе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Сквер с фонтаном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Администрации города и района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Музыкальная школ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Фонтан скульптурный в центре города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здание ЗАГСа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Воинский мемориал и Вечный огонь.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Часовня Пресвятой Троицы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Железнодорожный вокза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Братская могила советских воинов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Музей им. Дончакова, ул. Заводская 105,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ОАО "Флорентина" (Усть–Лабинский эфирно–маслоэкстракционный комбинат)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ЗАО "Сахарный завод "Свобода"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ООО "Русь" (хлебокомбинат)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Группа компании  "Подшипник»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ООО «Управляющая компания «АгроХолдинг «Кубань»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in-ulb"/>
          <p:cNvPicPr/>
          <p:nvPr/>
        </p:nvPicPr>
        <p:blipFill>
          <a:blip r:embed="rId2"/>
          <a:stretch/>
        </p:blipFill>
        <p:spPr>
          <a:xfrm>
            <a:off x="0" y="228600"/>
            <a:ext cx="2614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0" y="47242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Александровска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крепост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2"/>
          <a:stretch/>
        </p:blipFill>
        <p:spPr>
          <a:xfrm>
            <a:off x="3657600" y="3098880"/>
            <a:ext cx="4876920" cy="2841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3809880" y="7621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Здесь можно увидеть деревянны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частокол, пушечные платформы с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акетами пушек, а также можете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одняться на смотровую площадку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 которой открывается прелестны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ид на живописную южную природу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x_dfa4a143"/>
          <p:cNvPicPr/>
          <p:nvPr/>
        </p:nvPicPr>
        <p:blipFill>
          <a:blip r:embed="rId3"/>
          <a:stretch/>
        </p:blipFill>
        <p:spPr>
          <a:xfrm>
            <a:off x="152280" y="304920"/>
            <a:ext cx="2362320" cy="176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x_251c5564"/>
          <p:cNvPicPr/>
          <p:nvPr/>
        </p:nvPicPr>
        <p:blipFill>
          <a:blip r:embed="rId4"/>
          <a:stretch/>
        </p:blipFill>
        <p:spPr>
          <a:xfrm>
            <a:off x="152280" y="2514600"/>
            <a:ext cx="24386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ttp://ustlabinsk.ru/_pictures/foto/dosto/musapink.jpg"/>
          <p:cNvPicPr/>
          <p:nvPr/>
        </p:nvPicPr>
        <p:blipFill>
          <a:blip r:embed="rId2"/>
          <a:stretch/>
        </p:blipFill>
        <p:spPr>
          <a:xfrm>
            <a:off x="228600" y="380880"/>
            <a:ext cx="2286000" cy="3962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>
            <a:off x="3582360" y="604080"/>
            <a:ext cx="532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На втором полубастион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Александровской крепости на берегу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убани  находится могила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кромный обелиск на мест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захоронения был посл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свобождения города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ть-Лабинс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 Братской могиле покоятся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370 мирных жителе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 пионер-герой Муся Пинкензон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ченик школы N° 1, их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расстреляли фашисты в декабр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942 года. Перед смертью мальчик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ыграл фашистам на скрипк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«Интернационал».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6800" y="4727520"/>
            <a:ext cx="218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Памятник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Муси Пинкензону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224640" y="4617360"/>
            <a:ext cx="26496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Храм Преподобного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Сергия Радонежского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	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571200" y="1001520"/>
            <a:ext cx="50482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Храм однопрестольный. В 2002 году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было выполнено много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троительно-монтажных работ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8 мая 2003года Митрополит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Екатеринодарский и Кубанский Исидор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тслужил молебен и освятил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троительство, крест, купол и колокол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Храма, после чего колокол был установлен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на колокольню.</a:t>
            </a:r>
            <a:r>
              <a:rPr b="1" lang="ru-RU" sz="2400" spc="-1" strike="noStrike">
                <a:solidFill>
                  <a:srgbClr val="660066"/>
                </a:solidFill>
                <a:latin typeface="Monotype Corsiva"/>
              </a:rPr>
              <a:t>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ustlabinsk.ru/_pictures/foto/dosto/xram.jpg"/>
          <p:cNvPicPr/>
          <p:nvPr/>
        </p:nvPicPr>
        <p:blipFill>
          <a:blip r:embed="rId2"/>
          <a:stretch/>
        </p:blipFill>
        <p:spPr>
          <a:xfrm>
            <a:off x="228600" y="304920"/>
            <a:ext cx="2400480" cy="4038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3"/>
          <a:stretch/>
        </p:blipFill>
        <p:spPr>
          <a:xfrm>
            <a:off x="5638680" y="3733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0" y="4800600"/>
            <a:ext cx="2666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Храм Преподобного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Сергия Радонежского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BGeyT-9KCZg"/>
          <p:cNvPicPr/>
          <p:nvPr/>
        </p:nvPicPr>
        <p:blipFill>
          <a:blip r:embed="rId2"/>
          <a:stretch/>
        </p:blipFill>
        <p:spPr>
          <a:xfrm>
            <a:off x="4952880" y="390996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http://ustlabinsk.ru/_pictures/foto/dosto/xram.jpg"/>
          <p:cNvPicPr/>
          <p:nvPr/>
        </p:nvPicPr>
        <p:blipFill>
          <a:blip r:embed="rId3"/>
          <a:stretch/>
        </p:blipFill>
        <p:spPr>
          <a:xfrm>
            <a:off x="228600" y="304920"/>
            <a:ext cx="2400480" cy="4038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3580920" y="913320"/>
            <a:ext cx="5106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 18 июля 2006 года начался подъем куполов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а с осени началась роспись стен внутри Храм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 2007 году митрополитом Екатеринодарским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 Кубанским Исидором был освящен новы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красивый храм в честь Преподобного Серг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адонежского, который  строили всем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миром в течении 16 лет благоустроил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территорию, выстроили красивую питьевую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часовню в центре двора, красивы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кирпичный забор с коваными воротами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225360" y="4845600"/>
            <a:ext cx="22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МБОУ школа № 1,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им. А.В.Суворов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12 - 02 2014 195"/>
          <p:cNvPicPr/>
          <p:nvPr/>
        </p:nvPicPr>
        <p:blipFill>
          <a:blip r:embed="rId2"/>
          <a:stretch/>
        </p:blipFill>
        <p:spPr>
          <a:xfrm>
            <a:off x="152280" y="304920"/>
            <a:ext cx="2500560" cy="4038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2 - 02 2014 192"/>
          <p:cNvPicPr/>
          <p:nvPr/>
        </p:nvPicPr>
        <p:blipFill>
          <a:blip r:embed="rId3"/>
          <a:stretch/>
        </p:blipFill>
        <p:spPr>
          <a:xfrm>
            <a:off x="5562720" y="3657600"/>
            <a:ext cx="2933640" cy="2266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-20145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581280" y="34200"/>
            <a:ext cx="50558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imes New Roman"/>
              </a:rPr>
              <a:t>      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1 мая 1896 года инспектор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ародных школ Орлов дал письменное согласие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а постройку  здания двухклассного училищ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троительство было начато в этом же год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 закончено весной 1898 года. В марте 1898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года начинает функционировать как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Александровское двухклассное училищ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Министерства Просвещения.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 1941 году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мужчины-учителя и старшеклассники школ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ушли на фронт.Многие из них погибли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осле изгнания немцев из станицы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омещение школы еще некоторое время был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занято под госпиталь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 только в декабр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1943 года шко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зажила ново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жизнью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ополнилась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овыми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учебниками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аглядными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особиями, мебелью.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30480" y="4602600"/>
            <a:ext cx="197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Социально-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Педагогически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коллед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WeQVWCQ0Gbc"/>
          <p:cNvPicPr/>
          <p:nvPr/>
        </p:nvPicPr>
        <p:blipFill>
          <a:blip r:embed="rId2"/>
          <a:stretch/>
        </p:blipFill>
        <p:spPr>
          <a:xfrm>
            <a:off x="154080" y="304920"/>
            <a:ext cx="244800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3584160" y="1064880"/>
            <a:ext cx="5266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Раньше Усть-Лабинское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педагогическое училище,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а еще раньше здесь располагалась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Земская управа или атаманский дворец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Можно сказать, что это одно из самых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расивых зданий города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Богато украшено рельефным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орнаментом и объёмными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дентикулами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Элегантный подъезд довершает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эстетическое впечатление.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_Astra</cp:lastModifiedBy>
  <dcterms:modified xsi:type="dcterms:W3CDTF">2014-12-15T08:44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